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A33A-1E05-4386-A5B1-2AA9D1315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15F1-C598-424D-8C27-67E5EFF6E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F83-2FC7-4CF8-8C98-0D7FD6E9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3F7-9254-48F9-86B2-DD9C4C73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2D2-2B54-4A62-BDDA-4DEBB7CC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882-BB25-4AC0-B1C9-25FE06C3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B1A-69E3-4C93-8981-D83872CB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1C5-112A-48BD-BA21-F414453F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909-2948-491D-AEED-CC2FF05B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F2E-B815-4AFA-8A1D-67B79EAA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4E7-D078-452C-9DE5-5B303CA3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7B8-5F5D-4C92-8F36-5059B708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ADF-5E92-44EE-8038-7ED9AA50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89A-B9B7-4F27-A4A9-0D546D18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E00E-EF2C-4E93-938A-B0FD13ADA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h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ahsin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h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228600" y="4495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276720"/>
            <a:ext cx="2971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Tahsin. Yo vivo en New York. Tengo trece años. Yo Tengo dos hermanos. Estoy muy Feliz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410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609480" y="632448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 Ru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410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ri 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581280"/>
            <a:ext cx="41148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contento y aburrido!! Yo estoy alta! Mis piernas mucho Alta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!!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048120"/>
            <a:ext cx="3886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hh- Buenas Tardes, Angera,  Yo soy buena y emocionado! ¿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 Hay tare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438280"/>
            <a:ext cx="3886200" cy="3049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¿Como Estás? ¿Cual es la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4114800"/>
            <a:ext cx="51051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. Cuanto libros tienes? Yo quiero un libro. Mis libro es  pequeño.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2 day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9" descr="Photo on 2011-10-21 at 13.53 #2.jpg"/>
          <p:cNvPicPr/>
          <p:nvPr/>
        </p:nvPicPr>
        <p:blipFill>
          <a:blip r:embed="rId1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2" descr="Photo on 2011-10-21 at 13.46.jpg"/>
          <p:cNvPicPr/>
          <p:nvPr/>
        </p:nvPicPr>
        <p:blipFill>
          <a:blip r:embed="rId2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2"/>
          <p:cNvSpPr/>
          <p:nvPr/>
        </p:nvSpPr>
        <p:spPr>
          <a:xfrm>
            <a:off x="1375560" y="6324480"/>
            <a:ext cx="44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6" descr="Emily.jpg"/>
          <p:cNvPicPr/>
          <p:nvPr/>
        </p:nvPicPr>
        <p:blipFill>
          <a:blip r:embed="rId3"/>
          <a:stretch/>
        </p:blipFill>
        <p:spPr>
          <a:xfrm>
            <a:off x="1295280" y="4780080"/>
            <a:ext cx="685800" cy="630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55"/>
          <p:cNvSpPr/>
          <p:nvPr/>
        </p:nvSpPr>
        <p:spPr>
          <a:xfrm>
            <a:off x="2160" y="632448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7" descr="Angera.jpg"/>
          <p:cNvPicPr/>
          <p:nvPr/>
        </p:nvPicPr>
        <p:blipFill>
          <a:blip r:embed="rId4"/>
          <a:stretch/>
        </p:blipFill>
        <p:spPr>
          <a:xfrm>
            <a:off x="0" y="4876920"/>
            <a:ext cx="587520" cy="58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9" descr="Angera.jpg"/>
          <p:cNvPicPr/>
          <p:nvPr/>
        </p:nvPicPr>
        <p:blipFill>
          <a:blip r:embed="rId5"/>
          <a:stretch/>
        </p:blipFill>
        <p:spPr>
          <a:xfrm>
            <a:off x="2133720" y="243828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0" descr="New Canvas.jpg"/>
          <p:cNvPicPr/>
          <p:nvPr/>
        </p:nvPicPr>
        <p:blipFill>
          <a:blip r:embed="rId6"/>
          <a:stretch/>
        </p:blipFill>
        <p:spPr>
          <a:xfrm>
            <a:off x="304920" y="762120"/>
            <a:ext cx="1160280" cy="137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1" descr="New Canvas.jpg"/>
          <p:cNvPicPr/>
          <p:nvPr/>
        </p:nvPicPr>
        <p:blipFill>
          <a:blip r:embed="rId7"/>
          <a:stretch/>
        </p:blipFill>
        <p:spPr>
          <a:xfrm>
            <a:off x="2209680" y="3048120"/>
            <a:ext cx="384120" cy="46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3" descr="Angera.jpg"/>
          <p:cNvPicPr/>
          <p:nvPr/>
        </p:nvPicPr>
        <p:blipFill>
          <a:blip r:embed="rId8"/>
          <a:stretch/>
        </p:blipFill>
        <p:spPr>
          <a:xfrm>
            <a:off x="2286000" y="3581280"/>
            <a:ext cx="461880" cy="4572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6550200" y="3048120"/>
            <a:ext cx="48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6" descr="Emily.jpg"/>
          <p:cNvPicPr/>
          <p:nvPr/>
        </p:nvPicPr>
        <p:blipFill>
          <a:blip r:embed="rId9"/>
          <a:stretch/>
        </p:blipFill>
        <p:spPr>
          <a:xfrm>
            <a:off x="2286000" y="4114800"/>
            <a:ext cx="5335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6:22Z</dcterms:modified>
  <cp:revision>114</cp:revision>
  <dc:subject/>
  <dc:title>Profile</dc:title>
</cp:coreProperties>
</file>